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4DB1F-C5F4-4234-8DFE-45AA5A8C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EADDD-ED08-49EA-8379-81FF89828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3C86-3F8E-41A4-9A37-4C860A252D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E3D6C-1FDD-48BA-9A6B-12A91CB0E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E0E8E1-F996-44EF-B8CF-2C46179948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E3D0B-F0D9-4316-BCE3-193C1C666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CBDCD-968D-4D49-A0FC-AEE7CF84E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FDEC7-F12B-407E-85E5-37B3E2989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74C7-6BB0-42AB-9925-3F43FCCE4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B3CD7-FA7A-479D-844B-8F39252F8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37679-DF18-410B-828E-EAC2C01B6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AAD6E-F204-4DB1-A5E4-9014300F7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EB57F-4825-4423-B651-5E2BD4EF2C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AA0D5-24DC-4CE4-8A85-D5A2267D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B94F1-DBD4-4E5B-BE22-022C854D1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F13CB7-74E2-4088-A304-59B3F095ED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B74FAB-5F66-41D7-84A5-9E3C27A21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8C59-0561-4004-AF81-424995079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0DBD6-2E23-46F4-87A4-C3678C0A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959E-2B64-4E57-92DB-ED5FD762C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152FC-2430-409D-8E43-8B7E42976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23EA-CEFB-48A1-ACC3-4BD554BAC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84B4-14FC-45A7-B01B-8EDACB8CE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98EAB-EA67-4431-8BA6-E2CED7324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9D94E-96F3-4204-B417-B0F2816D4D29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F49EC-380B-4D6D-ADB0-EE8D4A4A626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QUANDO I REQUISITI NON SONO SUFFICIENTI PER LA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PARTECIPAZIONE ALLE GARE, SI PUO’ RICORRERE ALLE A.T.I. </a:t>
            </a: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   (art. 37) OPPURE ALL’AVVALIMENTO (art. 49 D.Lgs.n. 163/2006)</a:t>
            </a:r>
            <a:r>
              <a:rPr b="0" lang="it-IT" sz="2800" spc="-1" strike="noStrike">
                <a:solidFill>
                  <a:srgbClr val="330033"/>
                </a:solidFill>
                <a:latin typeface="Tahoma"/>
              </a:rPr>
              <a:t>                                                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vv. Andrea Stefanel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3F4CB-3D19-4F61-ACEE-235990803F7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1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III° decreto corret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OGGE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) contiene oo./b./s. elevato contenuto tecnologico/complessiva tecn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 o./b./s. &gt; 15% tot. app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subappalto (art. 118, c. 2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zione appaltante paga direttamente subappalt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500280"/>
            <a:ext cx="12254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78DE5-5A07-48DF-B725-927FF70BE84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tore economico invitato INDIVIDU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o presentare offe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sè o quale mandatario di operatori riunit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78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23DC0-CB26-49F4-9FC2-16EDA0A4579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3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ESEGUIRE le PERCENTUALI corrispondenti alle QUOTE di partecip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F241-0E01-4AFF-84A1-155585D836EE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“MANCATE RIFORME” DEL CODIC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fe00"/>
                </a:solidFill>
                <a:uFillTx/>
                <a:latin typeface="Tahoma"/>
              </a:rPr>
              <a:t>Mancanza corrispondenza fra requisiti - proporzionalità quota – esec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Modificabilità composizione a.t.i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Principio di massima concorrenzialità ed anti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O previsione esplicita a.t.i. m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fideiussione a.t.i. costituende (Ad.Plen. CdS 4/10/2005 n. 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anomalia offerte a.t.i. costituende (CdS 29/11/2005, n. 677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soggettiv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possesso alcuni requisiti (vds. QUALITA’, iscrizione Albi reg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oggettive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43640" y="494172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5157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256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729C5-6D18-4796-BFE1-D240B8A3E0A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4 = associati/ndi conferiscono MANDATO collettivo CON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5 =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MANDA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n scrittura privata aute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PROCUR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capo al L.R.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DATO gratuito ed IRREVOCAB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e revoca NO effetti nei confronti Stazione Appal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6 = Rappresentanza processuale ESCLUS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A. può far valere direttamente Responsabilità in capo singole Mand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8 = Fallimento Mandatario          S.A. prosegue altro mandante (diventa CAPOGRUPP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9 = Fallimento Mandante            Capogruppo indica sostituto mandante o subentra esecuz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213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A22C-E95A-420D-9461-C7C5516D833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CODICE CIVIL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MAND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3 c.c</a:t>
            </a:r>
            <a:r>
              <a:rPr b="0" lang="it-IT" sz="14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atto con cui parte si obbliga a COMPIERE ATTI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per CO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 ALTRA P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4 c.c. (rappresentanza) 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tere di agire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IN NO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ltre che “per conto”) man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5 (SENZA rappresentanza) = il mandatario ag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nome proprio; I terzi non hanno alcun rapporto con il mand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PROC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7 c.c. (Procura) = Potere di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8 c.c.= contratto concluso dal Rappresentante (mandat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IN NOME E PER CON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appresentato (mandante) produ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irettam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ffetti nei confronti del Rappresen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1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63280" y="5516640"/>
            <a:ext cx="352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E4FC-7ECD-4DD8-9E29-9D1CD49B55F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Direttiva 2004/18/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ale 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disporrà de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2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tecniche e professiona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per l’esecuzione del contra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rrà del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3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irewall"/>
          <p:cNvSpPr/>
          <p:nvPr/>
        </p:nvSpPr>
        <p:spPr>
          <a:xfrm>
            <a:off x="1979640" y="2060640"/>
            <a:ext cx="1152360" cy="7603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51280" y="2133720"/>
            <a:ext cx="1368000" cy="590400"/>
            <a:chOff x="3851280" y="2133720"/>
            <a:chExt cx="1368000" cy="590400"/>
          </a:xfrm>
        </p:grpSpPr>
        <p:sp>
          <p:nvSpPr>
            <p:cNvPr id="185" name="Gear"/>
            <p:cNvSpPr/>
            <p:nvPr/>
          </p:nvSpPr>
          <p:spPr>
            <a:xfrm>
              <a:off x="4609800" y="2133720"/>
              <a:ext cx="609480" cy="27072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1280" y="2245320"/>
              <a:ext cx="729000" cy="323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23960" y="2364480"/>
              <a:ext cx="810360" cy="359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hoto"/>
          <p:cNvSpPr/>
          <p:nvPr/>
        </p:nvSpPr>
        <p:spPr>
          <a:xfrm>
            <a:off x="6443640" y="2205000"/>
            <a:ext cx="1152720" cy="64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B5927-B95D-4712-AFFA-2969D6DE8F32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----------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di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donee dichiarazioni bancari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(comma 1° lett.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(a dimostrare)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----------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ilanci ed estratti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fatturato globale o di settor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tecniche e professionali” ----------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ope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i lavori eseguiti (comma 2°, lett. a,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lle forniture/servizi (lett. a, ii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e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ecnici (comma 2° lett.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attrezzature (comma 2° lett.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itoli studio (comma 2° lett. 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organico (comma 2° lett.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56000" y="2276640"/>
            <a:ext cx="6494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26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637000"/>
            <a:ext cx="5050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67280" y="4076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67280" y="4437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465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465300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653000"/>
            <a:ext cx="93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4653000"/>
            <a:ext cx="93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56F5E-05D3-4AC6-86A4-7E7582DFE3F9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n quale strumento giuridi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ttera di patro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formance 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Capacità economico/finanz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dichiarazioni bancarie, bilanci, fatturati)                      Contratto autonomo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i 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’az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odalità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prelimin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condizi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1916280"/>
            <a:ext cx="792360" cy="2952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530064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53737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B7EBA-DA96-4B4B-B8F1-7A7A0C1369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ontinu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tto di l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odato, ven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lo (a cal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pacità tecnico/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elenco lavori/forniture/servizi, indicazio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contratti a prog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cnici e titolo studio, elenco attrezza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co medio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subappalto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’az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060640"/>
            <a:ext cx="1187280" cy="2879640"/>
          </a:xfrm>
          <a:custGeom>
            <a:avLst/>
            <a:gdLst>
              <a:gd name="textAreaLeft" fmla="*/ 758520 w 1187280"/>
              <a:gd name="textAreaRight" fmla="*/ 1187280 w 1187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142F-3C11-4224-82D3-EF7B75831CD9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ahoma"/>
              </a:rPr>
              <a:t>A.T.I. 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(art. 37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1341360"/>
            <a:ext cx="7704000" cy="4462560"/>
            <a:chOff x="900000" y="1341360"/>
            <a:chExt cx="7704000" cy="4462560"/>
          </a:xfrm>
        </p:grpSpPr>
        <p:cxnSp>
          <p:nvCxnSpPr>
            <p:cNvPr id="101" name="_s73216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4804560" y="3071160"/>
              <a:ext cx="893160" cy="1001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732166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5802480" y="2073240"/>
              <a:ext cx="893160" cy="2997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732167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805920" y="3073320"/>
              <a:ext cx="893160" cy="9975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732168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808000" y="2075400"/>
              <a:ext cx="893160" cy="2993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732169"/>
            <p:cNvSpPr/>
            <p:nvPr/>
          </p:nvSpPr>
          <p:spPr>
            <a:xfrm>
              <a:off x="3894840" y="134136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rt. 3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Codice Contratti Pubblic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732170"/>
            <p:cNvSpPr/>
            <p:nvPr/>
          </p:nvSpPr>
          <p:spPr>
            <a:xfrm>
              <a:off x="90000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OPERE PUBBL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Art. 13 L.n. 109/94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19, commi 3, 4 L.n. 55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93 e 95 d.P.R. n. 554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732171"/>
            <p:cNvSpPr/>
            <p:nvPr/>
          </p:nvSpPr>
          <p:spPr>
            <a:xfrm>
              <a:off x="289764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ffffe1"/>
                  </a:solidFill>
                  <a:uFillTx/>
                  <a:latin typeface="Arial"/>
                </a:rPr>
                <a:t>FORNITURE PUBBLI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e1"/>
                  </a:solidFill>
                  <a:latin typeface="Arial"/>
                </a:rPr>
                <a:t>Art. 10 D.Lgs.n. 358/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732172"/>
            <p:cNvSpPr/>
            <p:nvPr/>
          </p:nvSpPr>
          <p:spPr>
            <a:xfrm>
              <a:off x="689148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TTORI ESCLUS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23 D.Lgs. N. 158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732173"/>
            <p:cNvSpPr/>
            <p:nvPr/>
          </p:nvSpPr>
          <p:spPr>
            <a:xfrm>
              <a:off x="4895640" y="4019040"/>
              <a:ext cx="1710000" cy="1784880"/>
            </a:xfrm>
            <a:custGeom>
              <a:avLst/>
              <a:gdLst>
                <a:gd name="textAreaLeft" fmla="*/ 83160 w 1710000"/>
                <a:gd name="textAreaRight" fmla="*/ 1626840 w 1710000"/>
                <a:gd name="textAreaTop" fmla="*/ 83160 h 1784880"/>
                <a:gd name="textAreaBottom" fmla="*/ 1701720 h 1784880"/>
              </a:gdLst>
              <a:ahLst/>
              <a:rect l="textAreaLeft" t="textAreaTop" r="textAreaRight" b="textAreaBottom"/>
              <a:pathLst>
                <a:path w="21600" h="22546">
                  <a:moveTo>
                    <a:pt x="3600" y="0"/>
                  </a:moveTo>
                  <a:arcTo wR="3600" hR="3600" stAng="16200000" swAng="-5400000"/>
                  <a:lnTo>
                    <a:pt x="0" y="18946"/>
                  </a:lnTo>
                  <a:arcTo wR="3600" hR="3600" stAng="10800000" swAng="-5400000"/>
                  <a:lnTo>
                    <a:pt x="18000" y="22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RVIZI PUBBLIC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11 D.Lgs. N. 157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495A7-5914-4600-BF4F-FCABDF948B8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 </a:t>
            </a:r>
            <a:r>
              <a:rPr b="0" lang="it-IT" sz="1900" spc="-1" strike="noStrike">
                <a:solidFill>
                  <a:srgbClr val="330033"/>
                </a:solidFill>
                <a:latin typeface="Tahoma"/>
              </a:rPr>
              <a:t>(artt. 49-50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con indicazione requisiti ed ausiliar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possesso requisiti ordine generale (art. 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originale o copia autentic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contrat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nel caso di gruppo)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legame giurid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siliaria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per messa disposizione me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inuncia partecipazione gara né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sponsabilità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 solid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corrente/ausili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zioni Appalt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rt. 6 (comma 9, lett. a)  </a:t>
            </a:r>
            <a:r>
              <a:rPr b="1" lang="it-IT" sz="1600" spc="-1" strike="noStrike" u="sng">
                <a:solidFill>
                  <a:srgbClr val="000099"/>
                </a:solidFill>
                <a:uFillTx/>
                <a:latin typeface="Tahoma"/>
              </a:rPr>
              <a:t>Autorità Vigilanz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uò chiedere      Operatori Economic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ocumenti / Informazioni  (CONTRATTI AVVALI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206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141720"/>
            <a:ext cx="225720" cy="914400"/>
          </a:xfrm>
          <a:custGeom>
            <a:avLst/>
            <a:gdLst>
              <a:gd name="textAreaLeft" fmla="*/ 144360 w 225720"/>
              <a:gd name="textAreaRight" fmla="*/ 226080 w 225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3213000"/>
            <a:ext cx="74880" cy="662040"/>
          </a:xfrm>
          <a:custGeom>
            <a:avLst/>
            <a:gdLst>
              <a:gd name="textAreaLeft" fmla="*/ 47880 w 74880"/>
              <a:gd name="textAreaRight" fmla="*/ 75240 w 74880"/>
              <a:gd name="textAreaTop" fmla="*/ 16920 h 662040"/>
              <a:gd name="textAreaBottom" fmla="*/ 645120 h 6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94172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51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0581D-CF1E-4753-A70C-A2DD6070E64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g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ammettere avvalimento + imprese (diversamente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ex leg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1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ma solo OO.PP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solo a requisiti tecnici o solo economici (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ora NO III° correttiv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B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prevedere possibile di mero completamento e non d’avvalimento tot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per particolari attrezzature)  fissare limite massimo d’avvalimento per ausiliari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corrente                              concorren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O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concorrente                     AUSILIARIA                   concorre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69236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321300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20364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51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563640" y="4724280"/>
            <a:ext cx="576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003640" y="472428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C2579-C2D0-466F-A609-AFAA013EB7F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NOVITA’ DEL CODICE            </a:t>
            </a:r>
            <a:r>
              <a:rPr b="0" lang="en-US" sz="2200" spc="-1" strike="noStrike">
                <a:solidFill>
                  <a:srgbClr val="330033"/>
                </a:solidFill>
                <a:latin typeface="Tahoma"/>
              </a:rPr>
              <a:t>    </a:t>
            </a:r>
            <a:br>
              <a:rPr sz="2200"/>
            </a:b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er forniture/serviz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2°   definizione a.t.i. verticale ed orizzonta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4°   indicazione quote d’esecuzione servizi/forn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5°   quota offerta = quota responsabilità S.A./subappal./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7°   divieto di “doppia” parteci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8°   facoltà di partecipazione successiva all’inv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9°   divieto modificazione componenti a.t.i. rispetto 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0°  annullamento aggiudicazione e nullità contra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1°  SI subappalto attività complesse valore &gt;15%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(3° 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2°  singolo partecipante può unirsi prima dell’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3°  corrispondenza fra quota partecipazione e 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D42-FDFC-4D5C-834A-875C8005622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RTICAL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prestazioni B/S indicate PRINCIPA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nche in termini economic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prestazioni B/S indicate SECONDA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A. nel  BANDO quali prestazioni PRINCIPALI e quali SECONDAR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ZZON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stesse presta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31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F5A9-B7F0-4FF8-BA12-A58A3F01CBB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4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specificare PARTI servizio/fornitura che saranno ESEGUITE dai singoli associ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8A9AE-0DAB-4E30-AD67-B3A495B8907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5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e00"/>
                </a:solidFill>
                <a:latin typeface="Arial"/>
              </a:rPr>
              <a:t>quota OFFER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2000" spc="-1" strike="noStrike">
                <a:solidFill>
                  <a:srgbClr val="6666ff"/>
                </a:solidFill>
                <a:latin typeface="Arial"/>
              </a:rPr>
              <a:t>quota RESPONSAB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del Subappalt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PRINCIPALI (=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MANDATARI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Responsabilit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IN SO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SECONDARIE (=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MANDA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  Responsabilita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IN LI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ff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DELL’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300B8-D0D4-4CA5-874B-179ED9CF93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7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si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in a.t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al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partecipazione                       a.t.i.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ga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79640" y="2852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84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465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414972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65300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182F-0EA9-4348-A0A7-BE30869E5078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8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partecipazion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ttoscrizione Offerta da parte di TUTTI associ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STESSI dovranno costituire A.T.I.                  FIRMARE contr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59280" y="249228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924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5013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000" y="4149720"/>
            <a:ext cx="453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97D9-603A-45E2-9F75-7857695D91D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9-10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IET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ualsias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ODIFIC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MPOSI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’a.t.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e h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FIRMA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OFFER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viol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nullamento aggiudicazione                                           Nullita’ contra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2924280"/>
            <a:ext cx="485640" cy="723960"/>
          </a:xfrm>
          <a:prstGeom prst="downArrow">
            <a:avLst>
              <a:gd name="adj1" fmla="val 50000"/>
              <a:gd name="adj2" fmla="val 372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0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4724280"/>
            <a:ext cx="20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724280"/>
            <a:ext cx="18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CCEB-022B-427F-B1C5-8399FB87A90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5:31:12Z</dcterms:created>
  <dc:creator>Avv. Andrea Stefanelli</dc:creator>
  <dc:description/>
  <dc:language>en-US</dc:language>
  <cp:lastModifiedBy>Avv. Andrea Stefanelli</cp:lastModifiedBy>
  <dcterms:modified xsi:type="dcterms:W3CDTF">2009-06-29T08:40:53Z</dcterms:modified>
  <cp:revision>324</cp:revision>
  <dc:subject/>
  <dc:title>Congresso sugli appalti</dc:title>
</cp:coreProperties>
</file>